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68A337A-8E50-4605-82AF-E006CA2AE2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62FA65-CB0F-41A6-9A0C-A825EEC90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A1FF28-B57B-4518-ABDA-F4193FCDAA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F0CB090-E00C-47F4-9A33-051E8AC468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080720" y="4533840"/>
            <a:ext cx="4722840" cy="3548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PH comment:  completely changed format of this graph so that the filled white box behind the graph is gone; title has been moved to correct placement and changed to be consistent with slide master forma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08CA7D-450C-475F-883E-FFAA9AEDA3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3EBB72-B4D5-41F1-89A2-3E33D5FD4F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476BD9-0E9B-49EF-AAF9-DA63603A45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AD7726-F2A1-4DE6-9114-7017C370E9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EDD6C0-B386-4DFB-A890-A2A880DFBA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5FCA5C6-910E-4834-A6B8-A129D1C6F0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F3AAA5-673C-476B-BE46-E419BAD1E0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21F37F0-C192-48F2-A537-77AEBEE3DB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E3B5F5-AF4B-4EE4-9D2A-4BE8CF0B36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2BD0E4-F0F3-459D-9271-F39836EFC1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BB40D09-EFE5-479D-8B38-AEB3743D63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30C2EC-F034-4BBF-8579-325906EA82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A0642D-8131-4D62-B00E-4D608A7DCC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D8334E-3FC2-49CD-81CF-8C6D6CE526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FF95DF-FF34-4B77-8CA5-4014531BA9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A6EF7A-AE05-4B4F-969B-620EA6BAAB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280D75-FF56-4A47-9723-4C745C096C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4DB0D4-7FDB-492E-A8DA-D923D4F57B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A81C8F-EBFD-4C83-BF07-C77341FE2E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EE32D8-B594-4F90-8B22-1AEAE6CD4E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5F5B62-9F9A-4F74-986D-CCD1A67918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A44F63F-C021-4325-9730-508ABB3E87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596B87-44ED-4A46-8D95-9D86916DD5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BCB663-5E6B-472B-8281-1F6D6185F2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223596-65F4-414E-83E9-5D7557BEDC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C59726-6AA7-45E4-9286-2BD95C6729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2CF5C5-0D82-4B0A-856C-74E895FE55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9AE1B3-C33F-4943-941A-FDD1AF8CF5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DC49CF-7FF5-4680-9FED-76730CF386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5E4C92-D8F6-4201-8425-7B1580EE88D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75555A-D5EC-4750-8999-83039C45DE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69C89E-6C3C-4532-BDC0-843C86004E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2431393-E244-48D6-BC18-528FB0E244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C1873F-F138-4AF8-B71B-19C5A8720D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933819-BBF9-4D8F-BFC3-28B868EB87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3A26E3-C32D-43DA-9B20-AA27BBB8B1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CF01AA-74C7-4BD3-96B7-7465E8278D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047240" y="4514760"/>
            <a:ext cx="4722840" cy="3546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ts comment: validate a program’s functionality and proper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6C2D85-7680-416F-9EA4-94CED436BD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079280" y="4529160"/>
            <a:ext cx="4617720" cy="3548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iplined processes use reviews and inspections to clear the entire “mine field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 examples of why the boundary conditions are the most importa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traffic control landing all planes on 9/11/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clear Regulatory Commission – everything goes wrong at the same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reme cases are the one you run into and need the system to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5BC141-2C04-4346-9A6A-C09EE9DF72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C70365-5826-4290-9E39-10602DBC35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1760" cy="3407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2960" y="4328640"/>
            <a:ext cx="503208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B13C-9CD1-4D37-BAB8-958BC217972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F6EF-86DC-4C91-905B-180E9E01403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865D-7522-4531-84A0-568333CDA06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99AD-AFCC-44C1-A64C-B0D01EE4E3D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6D5F-C8EE-45C9-B357-CFEE1B4567F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8163-EC56-4995-A2C4-A928AC23FEB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D3B0-A3A1-46D6-87FA-4A372E702D6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6EBF-CD97-4F11-B0AA-54EEFA652C7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25410075-F65C-47EF-9A37-795917A327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0"/>
          <p:cNvSpPr/>
          <p:nvPr/>
        </p:nvSpPr>
        <p:spPr>
          <a:xfrm>
            <a:off x="99360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Software Qualit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6652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Method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96760" y="1645920"/>
            <a:ext cx="77248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ipal ways to find and fix defects are b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and system 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m insp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you will likely have to remove lots of defects, you should use the most efficient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15480" y="6280200"/>
            <a:ext cx="1321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urce: Xero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88920" y="89820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T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3" descr="s11"/>
          <p:cNvPicPr/>
          <p:nvPr/>
        </p:nvPicPr>
        <p:blipFill>
          <a:blip r:embed="rId1"/>
          <a:stretch/>
        </p:blipFill>
        <p:spPr>
          <a:xfrm>
            <a:off x="1062000" y="1662120"/>
            <a:ext cx="699156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7624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Method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91720" y="16491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personal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privately review your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objective is to find and fix defects befor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s are most effective when they are structured and measu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reviews for requirements, designs, code, and everything else that you devel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ontinue to use inspections, compiling, and tes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Rates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87400" y="1650960"/>
            <a:ext cx="7685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at the personal level, it is more efficient to find defects in reviews than in tes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 test finds only about 2 to 4 defects per h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 test finds about 50% of the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reviews find about 6 to 10 defects per h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ed reviewers can find 70% or more of the defects before compiling or tes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Rat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6" descr="s14"/>
          <p:cNvPicPr/>
          <p:nvPr/>
        </p:nvPicPr>
        <p:blipFill>
          <a:blip r:embed="rId1"/>
          <a:stretch/>
        </p:blipFill>
        <p:spPr>
          <a:xfrm>
            <a:off x="887400" y="1797120"/>
            <a:ext cx="764712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792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Reviews are Effic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82720" y="1674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esting, you mu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ct unusual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gure out what the test program was d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where the problem is in the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gure out which defect could cause su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an take a lot of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reviews and inspections, yo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your own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where you are when you find a de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what the program should do, but did no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why this is a de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in a better position to devise a correct f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Princi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8704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 reviews follow a defined process with guidelines, checklists, and standa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review goal is to find every defect before the first compile or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ddress this goal, you shou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before compiling or 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coding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design completeness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improve your review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 customized personal check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8416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de Review Check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91720" y="1650960"/>
            <a:ext cx="7761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reviews will be most effective when your personal checklist is customized to your own defect experi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your own data to select the checklist i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and analyze data on the revie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just the checklist with experi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the reviews on a printed listing, not on the scre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ecklist defines the review steps and the suggested order for performing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for one checklist item at a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off each item as you complete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912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Review Princip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91720" y="1650960"/>
            <a:ext cx="77504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ddition to reviewing code, your should also review your desig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quires that yo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designs that can be revie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an explicit review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the design in s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fy that the logic correctly implements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84160" y="73800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able Desig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0800" y="1650600"/>
            <a:ext cx="7559640" cy="4189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viewable design has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d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e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ent and clear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uggests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’s purpose and function be explicitly st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have criteria for design complet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is structured in logical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design topics are covered in the next two lec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66520" y="836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90640" y="165096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quali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conomics of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-removal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consider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0400" y="803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sign Review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06120" y="1674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5000"/>
          </a:bodyPr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designs that can be reviewed in s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ggested review stages are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against the requirements to ensure that each required function is addressed by th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overall program structure and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logical constructs for correct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for robustness, safety, and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function, method, and procedure calls to ensure proper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special variables, parameters, types, and files for proper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88840" y="817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Measur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0180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o efficient reviews, you must have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has many useful quality and process-control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found per unit of 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injected and removed per hou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-removal le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of quality (CO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Yield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90280" y="1645920"/>
            <a:ext cx="76597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se yield measures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centage of the defects in the product that were found by that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-removal effectiveness of that process st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can be used to measure the effectiveness of design and code reviews, inspections, compiling, and tes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(for a phase)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en-US" sz="2200" spc="-1" strike="noStrike" baseline="-2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defects found) / (defects found + not fou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Fil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1" descr="s23"/>
          <p:cNvPicPr/>
          <p:nvPr/>
        </p:nvPicPr>
        <p:blipFill>
          <a:blip r:embed="rId1"/>
          <a:stretch/>
        </p:blipFill>
        <p:spPr>
          <a:xfrm>
            <a:off x="2033640" y="1546200"/>
            <a:ext cx="507672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Yield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90280" y="1655640"/>
            <a:ext cx="7659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yield is the percentage of defects injected before a phase that were found before that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yield before system test is the system test process yie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used without a phase name, process yield refers to the phase yield before compile and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7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 Estim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12960" y="1641240"/>
            <a:ext cx="78120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can be estimated but not precisely calculated until all defects have been found through test and product u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measures are most useful when the developers and testers record all of the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using process-control measures, you are more likely to do high-yield revie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9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Control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5840" y="1645920"/>
            <a:ext cx="74599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useful, process control measures must be available during the process.  Example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units reviewed per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found per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found per size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no control parameter directly correlates with phase yield, review rate is the most useful control parame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rate is the parameter used in the PS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884160" y="1711440"/>
            <a:ext cx="7367760" cy="468144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 versus Review Rat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 versus Review Rat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s28"/>
          <p:cNvPicPr/>
          <p:nvPr/>
        </p:nvPicPr>
        <p:blipFill>
          <a:blip r:embed="rId1"/>
          <a:stretch/>
        </p:blipFill>
        <p:spPr>
          <a:xfrm>
            <a:off x="316080" y="1459080"/>
            <a:ext cx="851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7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 versus Review Rat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20520" y="1649160"/>
            <a:ext cx="76611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ere is considerable variation, higher rates generally give lower-yield revie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suggests the following upper limits for review r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(using the LOC measure): 200 LOC/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s: 4 pages/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measures: develop from your personal review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9532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Quality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7912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finition: meeting the users’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not w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 functional needs are often unknow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hierarchy of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the required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performance requir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usable and conven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economical and tim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dependable and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444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Removal Leverage (DR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01440" y="1650960"/>
            <a:ext cx="7777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L measures the relative effectiveness of a process step  at removing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L is the number of defects removed per hour by a process step relative to a base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ual base is unit test (U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L (X/UT) is the DRL for phase X with respect to unit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L is calculated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L(X/UT) = (defects/hour phase X) / (defects/hour unit t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90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of Quality (COQ)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0756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Q measure process quality in a way that is meaningful to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Q elements are failure, appraisal, and prevention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cost is the time spent in repair and rework plus the cost of any scrap.  In PSP, it is compile and test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aisal costs are the costs of inspecting for defects.  In PSP, appraisal cost is design and code review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TSP, inspections are included in appraisal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90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of Quality (COQ)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0288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-prevention cost is the cost of identifying and  resolving defect cau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prevention generally is done by a team or a group and usually is led by a support staff me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defect-prevention cost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specification and design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analysis and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recor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90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of Quality (COQ)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54000" y="1660320"/>
            <a:ext cx="73454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useful COQ measure is the ratio of appraisal to failure costs (A/FR).  This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/FR = (appraisal COQ) / (failure CO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/FR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/FR measures are sensitive to th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PSP exercises, the A/FR target is 2.0 or gre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A/FR is associated with low numbers of test defects and high product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s should set A/FR targets based on estimated defect-free test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444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01800" y="16588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ing before or after comp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lationship of reviews and insp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pre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7444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ing Before Comp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20880" y="1665000"/>
            <a:ext cx="71690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r development environment has a compile step, it is more efficient to do code reviews before compi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sons for this are a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ime is about the same before or after compi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eviews are done before compiling, compile time is substantially re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me saved in compiling and testing is often more than the review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reviews find syntax/typo defects that the compiler would mi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reviews of compiled code are less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iler is equally effective before or after a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with many compile defects often have many test de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765000" y="1438200"/>
            <a:ext cx="766152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55"/>
          <p:cNvGrpSpPr/>
          <p:nvPr/>
        </p:nvGrpSpPr>
        <p:grpSpPr>
          <a:xfrm>
            <a:off x="1136520" y="2292480"/>
            <a:ext cx="6912360" cy="3705480"/>
            <a:chOff x="1136520" y="2292480"/>
            <a:chExt cx="6912360" cy="3705480"/>
          </a:xfrm>
        </p:grpSpPr>
        <p:sp>
          <p:nvSpPr>
            <p:cNvPr id="320" name="Rectangle 4"/>
            <p:cNvSpPr/>
            <p:nvPr/>
          </p:nvSpPr>
          <p:spPr>
            <a:xfrm>
              <a:off x="2085840" y="2405160"/>
              <a:ext cx="587088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>
              <a:off x="2085840" y="2405160"/>
              <a:ext cx="1800" cy="287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>
              <a:off x="2004840" y="5283360"/>
              <a:ext cx="16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"/>
            <p:cNvSpPr/>
            <p:nvPr/>
          </p:nvSpPr>
          <p:spPr>
            <a:xfrm>
              <a:off x="2004840" y="4995720"/>
              <a:ext cx="16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8"/>
            <p:cNvSpPr/>
            <p:nvPr/>
          </p:nvSpPr>
          <p:spPr>
            <a:xfrm>
              <a:off x="2004840" y="470700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9"/>
            <p:cNvSpPr/>
            <p:nvPr/>
          </p:nvSpPr>
          <p:spPr>
            <a:xfrm>
              <a:off x="2004840" y="442116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0"/>
            <p:cNvSpPr/>
            <p:nvPr/>
          </p:nvSpPr>
          <p:spPr>
            <a:xfrm>
              <a:off x="2004840" y="413244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>
              <a:off x="2004840" y="3844800"/>
              <a:ext cx="16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2004840" y="355608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2004840" y="326880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>
              <a:off x="2004840" y="297972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2004840" y="2693880"/>
              <a:ext cx="16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6"/>
            <p:cNvSpPr/>
            <p:nvPr/>
          </p:nvSpPr>
          <p:spPr>
            <a:xfrm>
              <a:off x="2004840" y="240516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>
              <a:off x="2085840" y="5283360"/>
              <a:ext cx="5870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8"/>
            <p:cNvSpPr/>
            <p:nvPr/>
          </p:nvSpPr>
          <p:spPr>
            <a:xfrm flipV="1">
              <a:off x="2085840" y="52243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9"/>
            <p:cNvSpPr/>
            <p:nvPr/>
          </p:nvSpPr>
          <p:spPr>
            <a:xfrm flipV="1">
              <a:off x="326088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0"/>
            <p:cNvSpPr/>
            <p:nvPr/>
          </p:nvSpPr>
          <p:spPr>
            <a:xfrm flipV="1">
              <a:off x="443556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1"/>
            <p:cNvSpPr/>
            <p:nvPr/>
          </p:nvSpPr>
          <p:spPr>
            <a:xfrm flipV="1">
              <a:off x="560556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2"/>
            <p:cNvSpPr/>
            <p:nvPr/>
          </p:nvSpPr>
          <p:spPr>
            <a:xfrm flipV="1">
              <a:off x="6781680" y="5224320"/>
              <a:ext cx="32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3"/>
            <p:cNvSpPr/>
            <p:nvPr/>
          </p:nvSpPr>
          <p:spPr>
            <a:xfrm flipV="1">
              <a:off x="795672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4"/>
            <p:cNvSpPr/>
            <p:nvPr/>
          </p:nvSpPr>
          <p:spPr>
            <a:xfrm>
              <a:off x="2957400" y="4659480"/>
              <a:ext cx="136800" cy="950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"/>
            <p:cNvSpPr/>
            <p:nvPr/>
          </p:nvSpPr>
          <p:spPr>
            <a:xfrm>
              <a:off x="2368440" y="4948200"/>
              <a:ext cx="1350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6"/>
            <p:cNvSpPr/>
            <p:nvPr/>
          </p:nvSpPr>
          <p:spPr>
            <a:xfrm>
              <a:off x="6832440" y="4659480"/>
              <a:ext cx="135000" cy="950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7"/>
            <p:cNvSpPr/>
            <p:nvPr/>
          </p:nvSpPr>
          <p:spPr>
            <a:xfrm>
              <a:off x="2957400" y="4083120"/>
              <a:ext cx="1368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8"/>
            <p:cNvSpPr/>
            <p:nvPr/>
          </p:nvSpPr>
          <p:spPr>
            <a:xfrm>
              <a:off x="2957400" y="5234040"/>
              <a:ext cx="13680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9"/>
            <p:cNvSpPr/>
            <p:nvPr/>
          </p:nvSpPr>
          <p:spPr>
            <a:xfrm>
              <a:off x="3308400" y="3795840"/>
              <a:ext cx="13644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0"/>
            <p:cNvSpPr/>
            <p:nvPr/>
          </p:nvSpPr>
          <p:spPr>
            <a:xfrm>
              <a:off x="2720880" y="4083120"/>
              <a:ext cx="1368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2252520" y="5234040"/>
              <a:ext cx="13500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2720880" y="4371840"/>
              <a:ext cx="1368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2016000" y="5234040"/>
              <a:ext cx="13680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5"/>
            <p:cNvSpPr/>
            <p:nvPr/>
          </p:nvSpPr>
          <p:spPr>
            <a:xfrm>
              <a:off x="1736640" y="51721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36"/>
            <p:cNvSpPr/>
            <p:nvPr/>
          </p:nvSpPr>
          <p:spPr>
            <a:xfrm>
              <a:off x="1736640" y="4884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7"/>
            <p:cNvSpPr/>
            <p:nvPr/>
          </p:nvSpPr>
          <p:spPr>
            <a:xfrm>
              <a:off x="1736640" y="45957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8"/>
            <p:cNvSpPr/>
            <p:nvPr/>
          </p:nvSpPr>
          <p:spPr>
            <a:xfrm>
              <a:off x="1736640" y="43099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9"/>
            <p:cNvSpPr/>
            <p:nvPr/>
          </p:nvSpPr>
          <p:spPr>
            <a:xfrm>
              <a:off x="1736640" y="40212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40"/>
            <p:cNvSpPr/>
            <p:nvPr/>
          </p:nvSpPr>
          <p:spPr>
            <a:xfrm>
              <a:off x="1736640" y="37339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41"/>
            <p:cNvSpPr/>
            <p:nvPr/>
          </p:nvSpPr>
          <p:spPr>
            <a:xfrm>
              <a:off x="1736640" y="3444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2"/>
            <p:cNvSpPr/>
            <p:nvPr/>
          </p:nvSpPr>
          <p:spPr>
            <a:xfrm>
              <a:off x="1736640" y="3159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3"/>
            <p:cNvSpPr/>
            <p:nvPr/>
          </p:nvSpPr>
          <p:spPr>
            <a:xfrm>
              <a:off x="1736640" y="28702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4"/>
            <p:cNvSpPr/>
            <p:nvPr/>
          </p:nvSpPr>
          <p:spPr>
            <a:xfrm>
              <a:off x="1736640" y="25812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45"/>
            <p:cNvSpPr/>
            <p:nvPr/>
          </p:nvSpPr>
          <p:spPr>
            <a:xfrm>
              <a:off x="1589040" y="229248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6"/>
            <p:cNvSpPr/>
            <p:nvPr/>
          </p:nvSpPr>
          <p:spPr>
            <a:xfrm>
              <a:off x="2011320" y="54482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7"/>
            <p:cNvSpPr/>
            <p:nvPr/>
          </p:nvSpPr>
          <p:spPr>
            <a:xfrm>
              <a:off x="311292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8"/>
            <p:cNvSpPr/>
            <p:nvPr/>
          </p:nvSpPr>
          <p:spPr>
            <a:xfrm>
              <a:off x="428796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9"/>
            <p:cNvSpPr/>
            <p:nvPr/>
          </p:nvSpPr>
          <p:spPr>
            <a:xfrm>
              <a:off x="545796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0"/>
            <p:cNvSpPr/>
            <p:nvPr/>
          </p:nvSpPr>
          <p:spPr>
            <a:xfrm>
              <a:off x="663264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1"/>
            <p:cNvSpPr/>
            <p:nvPr/>
          </p:nvSpPr>
          <p:spPr>
            <a:xfrm>
              <a:off x="780732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52"/>
            <p:cNvSpPr/>
            <p:nvPr/>
          </p:nvSpPr>
          <p:spPr>
            <a:xfrm>
              <a:off x="3974400" y="5772240"/>
              <a:ext cx="1695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mpile Defec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3"/>
            <p:cNvSpPr/>
            <p:nvPr/>
          </p:nvSpPr>
          <p:spPr>
            <a:xfrm rot="16200000">
              <a:off x="605880" y="3655800"/>
              <a:ext cx="1287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st Defec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 vs. Test Defects - Student 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836640" y="1495440"/>
            <a:ext cx="741852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52"/>
          <p:cNvGrpSpPr/>
          <p:nvPr/>
        </p:nvGrpSpPr>
        <p:grpSpPr>
          <a:xfrm>
            <a:off x="1197000" y="2360520"/>
            <a:ext cx="6699600" cy="3742200"/>
            <a:chOff x="1197000" y="2360520"/>
            <a:chExt cx="6699600" cy="3742200"/>
          </a:xfrm>
        </p:grpSpPr>
        <p:sp>
          <p:nvSpPr>
            <p:cNvPr id="372" name="Line 4"/>
            <p:cNvSpPr/>
            <p:nvPr/>
          </p:nvSpPr>
          <p:spPr>
            <a:xfrm>
              <a:off x="2114640" y="2473200"/>
              <a:ext cx="1440" cy="290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5"/>
            <p:cNvSpPr/>
            <p:nvPr/>
          </p:nvSpPr>
          <p:spPr>
            <a:xfrm>
              <a:off x="2036880" y="5383080"/>
              <a:ext cx="15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6"/>
            <p:cNvSpPr/>
            <p:nvPr/>
          </p:nvSpPr>
          <p:spPr>
            <a:xfrm>
              <a:off x="2036880" y="5092560"/>
              <a:ext cx="15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7"/>
            <p:cNvSpPr/>
            <p:nvPr/>
          </p:nvSpPr>
          <p:spPr>
            <a:xfrm>
              <a:off x="2036880" y="480060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8"/>
            <p:cNvSpPr/>
            <p:nvPr/>
          </p:nvSpPr>
          <p:spPr>
            <a:xfrm>
              <a:off x="2036880" y="451008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9"/>
            <p:cNvSpPr/>
            <p:nvPr/>
          </p:nvSpPr>
          <p:spPr>
            <a:xfrm>
              <a:off x="2036880" y="421812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>
              <a:off x="2036880" y="3929040"/>
              <a:ext cx="155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>
              <a:off x="2036880" y="363852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2036880" y="33465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>
              <a:off x="2036880" y="3056040"/>
              <a:ext cx="155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4"/>
            <p:cNvSpPr/>
            <p:nvPr/>
          </p:nvSpPr>
          <p:spPr>
            <a:xfrm>
              <a:off x="2036880" y="276228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2036880" y="2473200"/>
              <a:ext cx="15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"/>
            <p:cNvSpPr/>
            <p:nvPr/>
          </p:nvSpPr>
          <p:spPr>
            <a:xfrm>
              <a:off x="2114640" y="5383080"/>
              <a:ext cx="5686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7"/>
            <p:cNvSpPr/>
            <p:nvPr/>
          </p:nvSpPr>
          <p:spPr>
            <a:xfrm flipV="1">
              <a:off x="2114640" y="5324040"/>
              <a:ext cx="144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8"/>
            <p:cNvSpPr/>
            <p:nvPr/>
          </p:nvSpPr>
          <p:spPr>
            <a:xfrm flipV="1">
              <a:off x="3537000" y="5324040"/>
              <a:ext cx="144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9"/>
            <p:cNvSpPr/>
            <p:nvPr/>
          </p:nvSpPr>
          <p:spPr>
            <a:xfrm flipV="1">
              <a:off x="4957920" y="5324040"/>
              <a:ext cx="144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0"/>
            <p:cNvSpPr/>
            <p:nvPr/>
          </p:nvSpPr>
          <p:spPr>
            <a:xfrm flipV="1">
              <a:off x="6378480" y="5324040"/>
              <a:ext cx="180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1"/>
            <p:cNvSpPr/>
            <p:nvPr/>
          </p:nvSpPr>
          <p:spPr>
            <a:xfrm flipV="1">
              <a:off x="7800840" y="5324040"/>
              <a:ext cx="180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2"/>
            <p:cNvSpPr/>
            <p:nvPr/>
          </p:nvSpPr>
          <p:spPr>
            <a:xfrm>
              <a:off x="6595920" y="300672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3"/>
            <p:cNvSpPr/>
            <p:nvPr/>
          </p:nvSpPr>
          <p:spPr>
            <a:xfrm>
              <a:off x="2048040" y="4751280"/>
              <a:ext cx="131760" cy="986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4"/>
            <p:cNvSpPr/>
            <p:nvPr/>
          </p:nvSpPr>
          <p:spPr>
            <a:xfrm>
              <a:off x="5175360" y="300672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5"/>
            <p:cNvSpPr/>
            <p:nvPr/>
          </p:nvSpPr>
          <p:spPr>
            <a:xfrm>
              <a:off x="4608360" y="4462560"/>
              <a:ext cx="13032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6"/>
            <p:cNvSpPr/>
            <p:nvPr/>
          </p:nvSpPr>
          <p:spPr>
            <a:xfrm>
              <a:off x="375300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7"/>
            <p:cNvSpPr/>
            <p:nvPr/>
          </p:nvSpPr>
          <p:spPr>
            <a:xfrm>
              <a:off x="375300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8"/>
            <p:cNvSpPr/>
            <p:nvPr/>
          </p:nvSpPr>
          <p:spPr>
            <a:xfrm>
              <a:off x="2903400" y="4462560"/>
              <a:ext cx="13032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9"/>
            <p:cNvSpPr/>
            <p:nvPr/>
          </p:nvSpPr>
          <p:spPr>
            <a:xfrm>
              <a:off x="233208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30"/>
            <p:cNvSpPr/>
            <p:nvPr/>
          </p:nvSpPr>
          <p:spPr>
            <a:xfrm>
              <a:off x="3470400" y="533412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1"/>
            <p:cNvSpPr/>
            <p:nvPr/>
          </p:nvSpPr>
          <p:spPr>
            <a:xfrm>
              <a:off x="261612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33"/>
            <p:cNvSpPr/>
            <p:nvPr/>
          </p:nvSpPr>
          <p:spPr>
            <a:xfrm>
              <a:off x="1778040" y="52704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34"/>
            <p:cNvSpPr/>
            <p:nvPr/>
          </p:nvSpPr>
          <p:spPr>
            <a:xfrm>
              <a:off x="1778040" y="49816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5"/>
            <p:cNvSpPr/>
            <p:nvPr/>
          </p:nvSpPr>
          <p:spPr>
            <a:xfrm>
              <a:off x="1778040" y="46893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6"/>
            <p:cNvSpPr/>
            <p:nvPr/>
          </p:nvSpPr>
          <p:spPr>
            <a:xfrm>
              <a:off x="1778040" y="4398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7"/>
            <p:cNvSpPr/>
            <p:nvPr/>
          </p:nvSpPr>
          <p:spPr>
            <a:xfrm>
              <a:off x="1778040" y="41068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8"/>
            <p:cNvSpPr/>
            <p:nvPr/>
          </p:nvSpPr>
          <p:spPr>
            <a:xfrm>
              <a:off x="1778040" y="38149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9"/>
            <p:cNvSpPr/>
            <p:nvPr/>
          </p:nvSpPr>
          <p:spPr>
            <a:xfrm>
              <a:off x="1778040" y="3525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0"/>
            <p:cNvSpPr/>
            <p:nvPr/>
          </p:nvSpPr>
          <p:spPr>
            <a:xfrm>
              <a:off x="1778040" y="32338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41"/>
            <p:cNvSpPr/>
            <p:nvPr/>
          </p:nvSpPr>
          <p:spPr>
            <a:xfrm>
              <a:off x="1778040" y="29433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2"/>
            <p:cNvSpPr/>
            <p:nvPr/>
          </p:nvSpPr>
          <p:spPr>
            <a:xfrm>
              <a:off x="1778040" y="26510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43"/>
            <p:cNvSpPr/>
            <p:nvPr/>
          </p:nvSpPr>
          <p:spPr>
            <a:xfrm>
              <a:off x="1635120" y="236052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4"/>
            <p:cNvSpPr/>
            <p:nvPr/>
          </p:nvSpPr>
          <p:spPr>
            <a:xfrm>
              <a:off x="2043000" y="55497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45"/>
            <p:cNvSpPr/>
            <p:nvPr/>
          </p:nvSpPr>
          <p:spPr>
            <a:xfrm>
              <a:off x="3463920" y="55497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46"/>
            <p:cNvSpPr/>
            <p:nvPr/>
          </p:nvSpPr>
          <p:spPr>
            <a:xfrm>
              <a:off x="4813200" y="554976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47"/>
            <p:cNvSpPr/>
            <p:nvPr/>
          </p:nvSpPr>
          <p:spPr>
            <a:xfrm>
              <a:off x="6234120" y="554976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8"/>
            <p:cNvSpPr/>
            <p:nvPr/>
          </p:nvSpPr>
          <p:spPr>
            <a:xfrm>
              <a:off x="7655040" y="554976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9"/>
            <p:cNvSpPr/>
            <p:nvPr/>
          </p:nvSpPr>
          <p:spPr>
            <a:xfrm>
              <a:off x="3944160" y="5877000"/>
              <a:ext cx="1695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mpile Defec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0"/>
            <p:cNvSpPr/>
            <p:nvPr/>
          </p:nvSpPr>
          <p:spPr>
            <a:xfrm rot="16200000">
              <a:off x="666360" y="3747600"/>
              <a:ext cx="1287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st Defec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 vs. Test Defects - Student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vs. Compile Defects/KLO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1" descr="s38"/>
          <p:cNvPicPr/>
          <p:nvPr/>
        </p:nvPicPr>
        <p:blipFill>
          <a:blip r:embed="rId1"/>
          <a:stretch/>
        </p:blipFill>
        <p:spPr>
          <a:xfrm>
            <a:off x="345960" y="1527120"/>
            <a:ext cx="84502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744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s and Inspect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01800" y="164592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ipal focus of inspections should be to find problems that you have mis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programs have many simple defects, inspectors are distracted and often miss more important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ing the cod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 quality product for the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respect for the inspectors’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s higher-quality insp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s higher-quality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624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 Quality Focu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9388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useful, software mu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 quickly and eas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 consisten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ly handle normal and abnormal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do destructive or unexpected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essentially bug-f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are not important to users, as long as they do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e inconven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time or mon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e loss of confidence in the program’s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90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Preven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94960" y="1650960"/>
            <a:ext cx="7612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prevention is important bec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lways expensive to find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defects can be prevented, you can avoid the costs of finding and fixing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prevention analysis costs are incurred once, but the savings apply to every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prevention should follow an orderly strategy and a defined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PSP, defect prevention actions include gathering defect data, improving design methods, and prototyp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90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Prevention Strategy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2960" y="165096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priorities for the defect types that are 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tly fou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oubleso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ily preven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o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fect-prevention process has the following ste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an established schedu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one or two defect types for initial ac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the effectiveness of defect prev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ments and contin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7624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Prevention Strategy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06120" y="1641240"/>
            <a:ext cx="77230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setting initial priorities, consider the defect types found most frequently in integration and system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PSP data to pick one or two defect types for initial 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just try harder; establish explicit prevention ac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te these actions into your process scripts, checklists, and for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744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2960" y="1662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product quality and accelerate development work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reviews and inspections to remove defects befor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esting to check product quality, not to remove volumes of 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code revie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he quality of you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developmen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o effective reviews, you 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review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a disciplined review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and improve your review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 Quality Focu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96400" y="1650960"/>
            <a:ext cx="7610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fect content of software products must be managed before more important quality issues can be addres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defect content is an essential prerequisite to a quality software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low defect content can best be achieved where the defects are injected, engineers shou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their own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the causes of their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to prevent those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conomics of 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is the only modern technology that relies on testing to manage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common quality practices, software groups typ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d 50+% of the schedule in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ote more than half their resources to fixing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not predict when they will fin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 poor-quality and over-cost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nage cost and schedule, you must manage qual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a quality product out of test, you must put a quality product into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ing Alone is Ineff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6639120" y="2832120"/>
            <a:ext cx="250416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 and sec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= tes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ha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safe and insec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= un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nsha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5" descr="s7"/>
          <p:cNvPicPr/>
          <p:nvPr/>
        </p:nvPicPr>
        <p:blipFill>
          <a:blip r:embed="rId1"/>
          <a:stretch/>
        </p:blipFill>
        <p:spPr>
          <a:xfrm>
            <a:off x="426960" y="1765440"/>
            <a:ext cx="60372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62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ing Defects in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080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performing a task thousands of times, economics would suggest that you use the most efficient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50,000 LOC system with traditional development methods wou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25+ defects/KLOC at test entry - 1250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12,500+ programmer hours to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late and over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typical rate of 10+ hours per defect, this is 6 programmer ye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and Produ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886040" y="5481720"/>
            <a:ext cx="5856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d quality = 60% increased team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s9"/>
          <p:cNvPicPr/>
          <p:nvPr/>
        </p:nvPicPr>
        <p:blipFill>
          <a:blip r:embed="rId1"/>
          <a:stretch/>
        </p:blipFill>
        <p:spPr>
          <a:xfrm>
            <a:off x="789120" y="1743120"/>
            <a:ext cx="7565760" cy="337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4:04Z</dcterms:modified>
  <cp:revision>157</cp:revision>
  <dc:subject/>
  <dc:title>No Slide Title</dc:title>
</cp:coreProperties>
</file>